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87FC5-213B-44D6-B975-58A21947C5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D86A6-C881-4E6B-82DD-0982293C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4BEF60-C4AA-4B9A-9830-2C16EF6D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ABC68D-8A3D-4DB6-BCA4-2E66EEF5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30969A-926F-497B-A6C2-49EF24EE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E3FB0C-E395-4431-878F-91D457AF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62CE83-534D-4FC9-BD36-40799242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D0DC0E-C1C0-46A9-9BB5-661BCFE4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7CC567-9F7B-4EBA-B63C-B66C2E50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F90179-92EC-46DC-970C-A6EE9F52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B92AB8-FB0A-45EB-A0C0-7D5AE4C065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4308C-E1D5-4717-A295-45E2B4394B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CF249-39C2-4CFB-B7D2-90F0222C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55CCC-C0E0-4560-8522-CFC98AE3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71591-8666-49FB-B584-F2EF478E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E8345-C87B-4546-99B7-19E5C0A5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2FE6A-6A7C-418B-97FA-FF78C2D7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C73BC-F063-4AC6-8B55-B88D9809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F33B1-59BA-4070-86BC-04394670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244B4-015B-42D3-BF41-3A30FF2D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613F7-7CF7-4C5B-BBB2-85FD2A5C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4EA6C-99BB-43AD-B926-B0544873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95EBC-F3FA-4E3D-885B-588C6BA5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97A71-D7A9-4A93-ADD3-24E0C8A8FE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8833A-1CDE-481C-81FD-37757B7303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6D733D-C812-4E08-8B64-266173475B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3911C1-58A0-4BBB-BC11-99AAE922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4C6EE8-14DF-4F51-BC6D-759B014D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40B29C-564E-4F29-B420-9B254BBB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29B040-0D8A-44F1-98CF-DA0D586A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E1D070-9107-428C-AA6C-8EB51A33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DEA193-4B63-4588-BFCE-89F2EEC8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8BCECE-4D2B-4BA4-B69B-3CCDCB27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6D52B8-1D10-4F1E-85FA-6BD96A8C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446BE-E131-4811-83DA-D201D57F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42E550-8453-41E6-BD7D-45349952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95C2B5-E5E7-40A7-8301-328B7621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5DAB2A-16EA-49E0-BE61-C9EA50BC8D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AE9FA9-3902-4CA0-82BA-7D74A6BC80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446F3-D876-4BDC-A1C5-B10CF66E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9185DC-CB5D-47ED-A6B5-D3C95CB5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5544BD-5B7A-41F9-B0FC-D9AF4995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67C157-B89F-453B-8071-95B1F92E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35A901-F551-4F8D-9D19-BDA7FAC8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8F8BC0-C35C-4ADB-B74D-ED046E4D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15FB1-4BC0-4ECE-9FDF-8376BB66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B0A7C2-5094-4C88-8875-99C8C662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FAFFD9-8BD9-4AFF-BDCE-261B2CEE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758F27-34C4-4FCB-AC66-B3392BF9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C2D5E-C2FA-411E-831D-C957EFD1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7CC5DE-5158-4DD3-86E7-8327979349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0864F-CEE7-4FB1-86AF-4A606EB6AF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369C0-18EE-4DB7-80D9-C65364CA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93D43-72BB-46CE-9A56-FED0C77D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FDE02-8844-4D54-B078-14C09251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281D2-35F3-411B-AE7A-E8F3AD67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52C52-A16A-4B72-8081-2A7A1D42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3A3EE-E267-463B-BBB8-05D986DA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01E14-AC2B-4055-A9C0-6834FF99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E63E5-D5DA-4D52-BC5F-0585359A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734C6-2240-4DB5-AC49-5676E004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2E3F6-6ADC-4E25-A546-F7EDB5DA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010BF-A7AA-45E5-88AA-4A94E946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54148-7676-4667-A6F0-BCD196E15B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E9480-B52B-4925-A1D8-0568EBE41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2DFD8-3838-407A-A878-A41AF3A2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B7903-94C9-4A4E-9659-986560C3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BF2B2-66F1-434B-8A46-F8F82612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3D33F-3E6E-41D9-83F1-17D81207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4D68D-7FA3-4188-AAD3-BC596AC0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259CB-CC67-4EAA-9B91-5A6BD92E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AAFBB-637A-455A-B7A9-89CC0844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570F9-A481-4AB2-AD09-E8E86CA4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78065-69BB-4D1A-8E1C-970546EE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63443-82ED-45E5-911A-71282008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4C433-DDFE-46C1-8597-3FB8F0D3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D62FB-F371-409F-B093-906720C7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65A4E-3F66-46B8-BE61-6DD03781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A2A4F-A20C-4CC1-A456-AE8A85FC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6760E-39AA-4A2F-836B-A5C42F3E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18386-2D87-4037-8607-5EE050AA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33AD8-0AEC-499F-A54E-E01E317D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87294-239B-4614-AA88-0164B3EC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2231B-4DEC-4BDE-B8A8-D68C2A43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A3F92-5321-46C3-8464-06A0CA28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B7D95-55B4-4BB1-A84B-354A5FB9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E88B7-4874-495B-8F25-78C71DBA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D0344-FE1B-46E5-9CE4-1EA432AA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69300-409B-4A34-BE2E-CAB3F427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6A49B-C7F9-445D-8573-5DD26472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40A6A-4DEC-453C-B634-EFD7B0B3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0868A-389D-4CCE-AEC5-E0948640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B0D80-EC6B-4CA3-BF68-EE6943DC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840FF-3C86-4B70-A140-9C79EC0B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00CB3-94D5-4229-80BF-12625646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A48CB-07C4-46E8-8D66-C1F14CD2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6F7B5-C145-49DB-AA5B-A2E17C93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D7CD1-4F72-4D9D-BD49-46680E79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6C189-A38D-43DF-BB1E-2B6DC459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233C6-F322-47F4-B027-80FD4798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D4144-46AD-4103-9396-19FB8F9A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3578D-ED0A-4925-BDC2-F3F98401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9E0FF-533F-47A8-8F9E-763EDF47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741EF-4040-47E5-AE06-44331762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1BC2B4-EFC9-4021-BD7E-A86846F3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3977BC-ECD8-4857-82D1-CAAE0E5E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72523D-F417-4F61-8A49-6865763A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52382C-E8AB-4D17-BCC7-B157D4B0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E0E093-956E-4174-9087-83E547F9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CF7475-933C-4880-B7AC-CC11C7A0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BFC26B-EA84-4595-8F44-9574BA03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FFBA2-9AFE-49CB-85F0-327E0967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076AA-B06D-4590-8840-8BC2A64D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FA9805-4D7E-49D1-959B-A5757AB3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583648-588E-4A3C-93B0-F14FA540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004A4A-814F-488E-882F-5D86D970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D577AE-0E2D-4E90-B1C9-392B56AA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E2A8B7-82B1-45F9-A662-D6AB6A01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CA0FFF-3838-4819-9538-C42B5C67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1F8B09-ABE9-450A-9FCB-53C91A32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C15F7B-9FBD-444F-A3D9-3C29BD26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20992B-4C59-4690-AA08-948F189F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D5B664-E6CA-4C0E-9D10-4752ED93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86C6C-E8CA-4477-863B-C43B91B5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79D82F-2691-41E2-9449-01D93DB0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A90555-9969-42ED-B162-1DC93064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12B047-A613-4100-9746-E1BF8912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FE1FB5-6FDD-442E-A7CE-2C2D0679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57EB71-C449-44FA-BECC-AD045383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211EB5-672F-4B8D-8E18-A1E253AF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B311A6-AC21-45E9-97FA-04C05011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2892FF-036C-4D90-8E76-7B70306F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5121E2-EA7E-46AF-A3BD-528E8BA2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C5321C-430F-43E1-8AB8-110B6E9D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21642-B85B-46E7-8E65-C84483F2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4A0232-F566-4B3A-8E91-82CF1274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5C89BC-A777-4E82-8900-131DCE7F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1B9471-1EEB-4DE3-9588-7AB8B098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0AC6B6-D1FD-482E-9670-4C62FA3A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DCF0D8-06AA-47E9-8C9A-2A3DAFA6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E3C22F-B82B-4E44-8E52-8DF49790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E6268B-8F33-4F0B-BC94-3A6CEF16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D05CAD-2777-4F31-8F20-FB128A29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AE9845-06A9-46FF-A7A0-203A0C2B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7E49C5-8B67-4378-95D1-39AC9B6A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D4B34-341D-4DA9-AAE1-7B95E226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A58DBA-DD13-4BC4-83ED-7F396141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412F95-9A4A-48D8-9257-3023D334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F539DD-4A4C-4717-8265-7F5544C5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DF5C0F-4E7E-4BD6-9A8D-E73E3E77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F2F4D9-0831-4F78-B6D3-0376E4FF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EA9C9E-6265-4644-AF6A-AFC5D8CF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4C7B61-43AF-4FE4-A5A4-BF88F8A0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8AFBA5-2498-4F9A-B701-18AFCC19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8E4660-18C8-4432-91FD-276F7A5D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FF658F-8FEB-49F1-9B17-356664EB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F5618-3FFA-41EA-8319-CB857C0F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DE5A8C-1440-4F94-894A-17516DBB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88F3B9-0D09-435B-AF07-07F9CEE4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D6BAA4-7B2B-46AF-8459-BBC3587B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765EAE-8708-4295-91C1-93CC2D76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AA3850-C011-4185-9ABD-197C4378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E88252-B4A7-4941-982E-90EB52C3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CA0E0E-D043-4D48-B8CC-25621915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A2AAC9-F2EB-487F-B98B-A509278C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403EAF-C8C7-43AE-94B4-0E278B33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06A6CC-A5DC-4399-A45F-CC53C48B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732C31-E679-4511-8BE9-25A7F7F336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CFED85-3123-47B3-A3D3-6B0DC0E4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B765B4-D6F1-448E-A0ED-CCCC0747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3DF5F2-1B4D-487D-B90F-3CBB06A3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2C4AE8-115A-41D8-BE4A-2DEDB607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4B650E-78F3-4801-85A6-5B27647A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FAD884-6A73-4333-A3F9-BC01BFDD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92EA27-BC64-4ACE-A372-DA7CA079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4995FF-99CA-4873-B61D-948D844B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9817F6-288E-41A6-A0AA-A9205EDB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02F172-8243-4100-B61F-BD0FF2BA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FE5A85-68A5-465F-92D4-F0D08942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98265A-1E6C-4660-8909-0B951859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043FCD-FF37-42C2-A46F-3E1F6AC9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CDBE8C-341A-4024-988C-46313040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1B1FDF-AB05-4AEF-89F4-88478B05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37E158-8FC8-4691-8269-F75D5C12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4B5CDE-ACD8-480B-BDCD-EF672568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7A3556-31ED-4BF5-B6A7-997EA10B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CCEEC1-C32A-4DC0-9707-C4BDACFA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9E0CED-1109-4989-A2A4-EFDA3704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B7FD39-B9C3-48C1-BD00-8D980FEA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970651-9476-49A2-9B7F-F538CAD9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82AEA5-92A4-4EC7-A0A1-C014C6A3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E11F94-53DA-4E35-8A4F-4F0E095A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87E5F6-EA65-4B47-99CF-6BC65F18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2C26A1-C63E-4708-B65D-D37782E1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DE582C-DD8A-4F4B-8BD9-2029D891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9962B2-FD14-45AF-9309-BDC0AB71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71D062-5589-4C93-8B64-55FCA2FD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C57BFF-C604-4896-B264-DAC39427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2222FF-C838-4B06-BF16-7EF3B9C9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37F771-E1E5-4003-9A8F-A10D30B7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49FC33-49CD-4F6E-95D4-8D8A35EE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265AF6-8120-48B6-9281-5ED3BE03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EAB200-58F2-4AF5-A2DF-977E6505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02D434-C656-4E20-B86A-D45D3525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93F185-5F8D-4089-916D-0A4582F6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8C5612-5D8A-418E-B548-D792A061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508ACD-40FD-4D4E-B4C2-F9B3AE5C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A63907-AE8E-4174-8017-75665477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535DFC-4258-46DC-8800-A5FFF6B2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B22131-C56A-4F9B-BA56-348EB13E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AD55B5-196A-4387-8A34-80B4A921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158CE-511D-4A1E-8171-C46A7195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733CED-EDE7-4AA0-BED7-39CFCFE6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C69E69-531D-4788-90C3-435F570E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AD7D34-8BF4-4FEC-AA1E-BDDDCF98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79E7BF-E27A-42B3-B96F-BA42A59D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06DC66-F5AE-4261-A0FE-B929A111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7CCC38-8C79-4349-B747-CD29832B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31B781-8991-4B5F-8B9F-C09185D6D7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AC726-430A-499A-875D-7D8FDD278E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CCDE0-53CD-4405-98C1-D1C4342F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5ADE2-7895-4009-A674-AFDC7F61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1B8C0-30E0-41D1-81D1-11769683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0D0CC-8770-4CCC-8086-C5B66ACE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C8422-6ABB-424E-9908-A9CB8E51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548F5-730E-4E71-BFE6-7BAD497E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F997E-74E6-481C-B432-F4795218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716C2-B77C-4D9D-8870-97282289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BD2D3-C8F7-45F9-96A3-CB0C9181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A9D02-0683-412F-86F5-C200039E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9E15C-DEAA-4936-8A96-626620E7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E6F86-6151-454A-B65C-43C3E07382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0AD66B-23EE-4258-9198-FA49E9DBE7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110F4-F00D-4D60-9DAF-A469FAC4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62FB7C-C454-452E-85B0-323BAE0C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77CEB5-8A8B-4E90-8674-64E229C0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1883DC-02AB-4345-A090-0AB21541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CEAB0E-14AD-4F93-98FB-18C1C9EB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67DA80-642E-4F14-B3EB-B1B56575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53BEEA-32F9-4B9D-9B4C-D3E4EE67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7D131D-5B5E-4993-A75B-87721C68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BB0EBB-528B-4DAC-BE78-9AD4E81C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039418-0952-4CD0-9B18-3C70BD19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14B503-8326-4E5B-A1BB-530A83AD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D830F-BBC0-454D-A1A0-6FCFB4D9E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8B772A-54ED-497D-8D73-D007004D19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30B177-F63E-470D-A598-5758C4B4B8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08F812-83FB-46FB-A2B4-2DCF65DB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F0E2B5-A02A-4097-99AC-FD3DF0FD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7EC1E4-4D17-4544-89A2-666EC30C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437AED-6C4A-4F37-ABC3-7D444D06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58B2AA-F3B6-4186-996D-67E017E1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59F366-D22E-435B-8AFA-1B33A187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82E962-F52B-40D8-80E4-4E91F4E1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BFB757-C47D-46A3-8778-3E38B2D8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B7711-49B8-40F3-9067-53D1BEDE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658989-C55C-4619-A461-FBB8924E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6177C1-9273-4777-8F0F-E9D8A255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99A837-BB13-4F83-84C4-7FD16A5C03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BDB02-BB79-4900-B548-EA0F4B529C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65EDA-FF73-4EA9-81DD-BC21F97A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111D9-C610-45E1-BDA5-35F30B3B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CF5BA-89A9-41CB-8162-2CF412C9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C31E6-B30E-429C-BF0C-8F2BF5F6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EC7DD-6FB1-4B0F-A76E-6C1265E3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AA5A6-E5BC-4500-965C-8C536097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1D0A9-6460-4E4B-BC85-D0F642CC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6021C-C868-41FC-9961-A8D9726E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2BB9F-DD97-4876-ADEA-C9729FEC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3E4C4-5CCD-427F-B41A-878330CB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CB2F9-9280-4861-BC6A-4F25359C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9C31F-F594-445A-9983-31F16CDAC3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8B1742-C6E1-48D9-807C-8BE61464BD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9F16A1-C0D5-489A-A80C-D1EAE72D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4AEC6F-86E0-48E3-854E-2B428ABC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0E5F78-D3B4-45B2-88C5-3D2EFE4B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77EA69-7E3D-4164-AF5D-5BDC8008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1A7CC-71E7-4D5F-B221-D4D942B2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339EE5-055B-41DD-9251-1EE1A454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E6969B-8764-4CD2-8A9C-5061C06D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4FCBFD-B1DB-4C2F-B0BE-08D0B78C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962FC6-5F3F-47B0-BD7B-05C9607A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AD22BA-903C-4C1A-992B-92EB648C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977283-A706-4FEA-B5E2-E478ED3B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0C2A7F-7BF6-47C2-874B-2A97DFC444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6AA9B9-8005-47EC-A44A-2875AED62D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52AD99-3FA8-45F3-BE04-3C7DB0FB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3B2F88-C77D-4907-BABA-68EE6F4C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A67D-30B5-48E0-80A5-B72A9E16357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BDD1-218B-4267-B52F-02500D2F007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2195-B3C2-47CC-BEBB-DD86CCEFFF8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BD6B-9174-47C4-8BB5-15BC5BBCE6C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AA7F-F7D6-47BF-AD76-F64FAE2F27B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2EAF-D1F4-404C-A8B6-FB27D1C10A6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431C-4933-47FD-8DA7-183D0182475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332D-0D2A-4B2F-BE49-F44D7881216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E11D-8E2C-477E-BFFF-1123C6E34E5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7359-4C5B-47FF-9E6F-96F0F4D3B32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8D6C-3E2B-4678-92B5-47C41F166C0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588B-CACD-4CE0-8F22-28B6E91A0A3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E9A1-8BAD-48F7-812B-F2230FCB448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38E6-6051-4673-A0EA-0BF1B8731B1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23D1-B5CC-400D-B983-B7367D3B7AB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692F-B257-4902-B81A-AA96D6573F2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D64D-8F2D-4319-B5A8-C482D602A01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9F48-FD33-4D7D-BD47-6C42FD10084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4D8B-132A-4F10-83BD-B7B1385A357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2F05-9A22-4458-BFF0-71DF27A2A42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1192-3073-4A6B-AB93-7C3E29C0A11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158A-9DEA-410E-9292-E0A88D2103D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F053-CCFA-4D57-869B-41DBF94D8CC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318F-6E70-4CCF-A2B2-5B94ECB15AC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3251160" y="2841480"/>
            <a:ext cx="557280" cy="46224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422280" y="276876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练 习 课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82720" y="17445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 内 乘 法（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文本框 1"/>
          <p:cNvSpPr/>
          <p:nvPr/>
        </p:nvSpPr>
        <p:spPr>
          <a:xfrm>
            <a:off x="600120" y="64440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算一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文本框 2"/>
          <p:cNvSpPr/>
          <p:nvPr/>
        </p:nvSpPr>
        <p:spPr>
          <a:xfrm>
            <a:off x="406440" y="1406520"/>
            <a:ext cx="831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=        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=        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=        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+7=        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- 2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=        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=        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=        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- 4=        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+2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文本框 3"/>
          <p:cNvSpPr/>
          <p:nvPr/>
        </p:nvSpPr>
        <p:spPr>
          <a:xfrm>
            <a:off x="1374840" y="1427040"/>
            <a:ext cx="8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文本框 4"/>
          <p:cNvSpPr/>
          <p:nvPr/>
        </p:nvSpPr>
        <p:spPr>
          <a:xfrm>
            <a:off x="2889360" y="1427040"/>
            <a:ext cx="8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文本框 5"/>
          <p:cNvSpPr/>
          <p:nvPr/>
        </p:nvSpPr>
        <p:spPr>
          <a:xfrm>
            <a:off x="4424400" y="1427040"/>
            <a:ext cx="8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文本框 6"/>
          <p:cNvSpPr/>
          <p:nvPr/>
        </p:nvSpPr>
        <p:spPr>
          <a:xfrm>
            <a:off x="6323040" y="1427040"/>
            <a:ext cx="8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文本框 7"/>
          <p:cNvSpPr/>
          <p:nvPr/>
        </p:nvSpPr>
        <p:spPr>
          <a:xfrm>
            <a:off x="8229600" y="1427040"/>
            <a:ext cx="8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文本框 13"/>
          <p:cNvSpPr/>
          <p:nvPr/>
        </p:nvSpPr>
        <p:spPr>
          <a:xfrm>
            <a:off x="1382760" y="2271600"/>
            <a:ext cx="8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文本框 17"/>
          <p:cNvSpPr/>
          <p:nvPr/>
        </p:nvSpPr>
        <p:spPr>
          <a:xfrm>
            <a:off x="2898720" y="2271600"/>
            <a:ext cx="8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文本框 19"/>
          <p:cNvSpPr/>
          <p:nvPr/>
        </p:nvSpPr>
        <p:spPr>
          <a:xfrm>
            <a:off x="4432320" y="2271600"/>
            <a:ext cx="8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文本框 20"/>
          <p:cNvSpPr/>
          <p:nvPr/>
        </p:nvSpPr>
        <p:spPr>
          <a:xfrm>
            <a:off x="6330960" y="2271600"/>
            <a:ext cx="8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文本框 22"/>
          <p:cNvSpPr/>
          <p:nvPr/>
        </p:nvSpPr>
        <p:spPr>
          <a:xfrm>
            <a:off x="8238960" y="2271600"/>
            <a:ext cx="8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0" name="组合 17"/>
          <p:cNvGrpSpPr/>
          <p:nvPr/>
        </p:nvGrpSpPr>
        <p:grpSpPr>
          <a:xfrm>
            <a:off x="434880" y="838080"/>
            <a:ext cx="8699760" cy="2232000"/>
            <a:chOff x="434880" y="838080"/>
            <a:chExt cx="8699760" cy="2232000"/>
          </a:xfrm>
        </p:grpSpPr>
        <p:sp>
          <p:nvSpPr>
            <p:cNvPr id="1011" name="文本框 4"/>
            <p:cNvSpPr/>
            <p:nvPr/>
          </p:nvSpPr>
          <p:spPr>
            <a:xfrm>
              <a:off x="434880" y="838080"/>
              <a:ext cx="86997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在       里填上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“</a:t>
              </a: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＞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”“</a:t>
              </a: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＜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”</a:t>
              </a: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或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“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=”</a:t>
              </a: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+2 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      3+2         2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      2+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      3+3       1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      1+3        5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      5+5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椭圆 5"/>
            <p:cNvSpPr/>
            <p:nvPr/>
          </p:nvSpPr>
          <p:spPr>
            <a:xfrm>
              <a:off x="929520" y="843840"/>
              <a:ext cx="504000" cy="504000"/>
            </a:xfrm>
            <a:prstGeom prst="ellipse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椭圆 6"/>
            <p:cNvSpPr/>
            <p:nvPr/>
          </p:nvSpPr>
          <p:spPr>
            <a:xfrm>
              <a:off x="1296360" y="1696680"/>
              <a:ext cx="504000" cy="504000"/>
            </a:xfrm>
            <a:prstGeom prst="ellipse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椭圆 7"/>
            <p:cNvSpPr/>
            <p:nvPr/>
          </p:nvSpPr>
          <p:spPr>
            <a:xfrm>
              <a:off x="3918960" y="1696680"/>
              <a:ext cx="504000" cy="504000"/>
            </a:xfrm>
            <a:prstGeom prst="ellipse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椭圆 13"/>
            <p:cNvSpPr/>
            <p:nvPr/>
          </p:nvSpPr>
          <p:spPr>
            <a:xfrm>
              <a:off x="6701040" y="1721160"/>
              <a:ext cx="504000" cy="504000"/>
            </a:xfrm>
            <a:prstGeom prst="ellipse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椭圆 19"/>
            <p:cNvSpPr/>
            <p:nvPr/>
          </p:nvSpPr>
          <p:spPr>
            <a:xfrm>
              <a:off x="6725880" y="2543760"/>
              <a:ext cx="504000" cy="504000"/>
            </a:xfrm>
            <a:prstGeom prst="ellipse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椭圆 20"/>
            <p:cNvSpPr/>
            <p:nvPr/>
          </p:nvSpPr>
          <p:spPr>
            <a:xfrm>
              <a:off x="3932640" y="2557800"/>
              <a:ext cx="504000" cy="504000"/>
            </a:xfrm>
            <a:prstGeom prst="ellipse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椭圆 22"/>
            <p:cNvSpPr/>
            <p:nvPr/>
          </p:nvSpPr>
          <p:spPr>
            <a:xfrm>
              <a:off x="1302120" y="2566080"/>
              <a:ext cx="504000" cy="504000"/>
            </a:xfrm>
            <a:prstGeom prst="ellipse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文本框 23"/>
          <p:cNvSpPr/>
          <p:nvPr/>
        </p:nvSpPr>
        <p:spPr>
          <a:xfrm>
            <a:off x="1362240" y="1665360"/>
            <a:ext cx="4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文本框 24"/>
          <p:cNvSpPr/>
          <p:nvPr/>
        </p:nvSpPr>
        <p:spPr>
          <a:xfrm>
            <a:off x="3889440" y="1701720"/>
            <a:ext cx="4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文本框 25"/>
          <p:cNvSpPr/>
          <p:nvPr/>
        </p:nvSpPr>
        <p:spPr>
          <a:xfrm>
            <a:off x="6718320" y="1709640"/>
            <a:ext cx="4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文本框 26"/>
          <p:cNvSpPr/>
          <p:nvPr/>
        </p:nvSpPr>
        <p:spPr>
          <a:xfrm>
            <a:off x="1327320" y="2570040"/>
            <a:ext cx="4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文本框 29"/>
          <p:cNvSpPr/>
          <p:nvPr/>
        </p:nvSpPr>
        <p:spPr>
          <a:xfrm>
            <a:off x="6743880" y="2538360"/>
            <a:ext cx="4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文本框 1"/>
          <p:cNvSpPr/>
          <p:nvPr/>
        </p:nvSpPr>
        <p:spPr>
          <a:xfrm>
            <a:off x="3925800" y="2549520"/>
            <a:ext cx="4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2" descr="D:\我的文档-桌面-收藏夹\桌面\奥运五环.jpg"/>
          <p:cNvPicPr/>
          <p:nvPr/>
        </p:nvPicPr>
        <p:blipFill>
          <a:blip r:embed="rId1"/>
          <a:srcRect l="6776" t="8051" r="10680" b="6698"/>
          <a:stretch/>
        </p:blipFill>
        <p:spPr>
          <a:xfrm>
            <a:off x="1436760" y="1855800"/>
            <a:ext cx="1324080" cy="907920"/>
          </a:xfrm>
          <a:prstGeom prst="rect">
            <a:avLst/>
          </a:prstGeom>
          <a:ln w="0">
            <a:noFill/>
          </a:ln>
        </p:spPr>
      </p:pic>
      <p:sp>
        <p:nvSpPr>
          <p:cNvPr id="1026" name="TextBox 33"/>
          <p:cNvSpPr/>
          <p:nvPr/>
        </p:nvSpPr>
        <p:spPr>
          <a:xfrm>
            <a:off x="357120" y="843120"/>
            <a:ext cx="8140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一面奥运五环旗上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个圆环，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面奥运五环旗上一共有多少个圆环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51"/>
          <p:cNvSpPr/>
          <p:nvPr/>
        </p:nvSpPr>
        <p:spPr>
          <a:xfrm>
            <a:off x="3141720" y="3225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×5=1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8" name="Picture 2" descr="D:\我的文档-桌面-收藏夹\桌面\奥运五环.jpg"/>
          <p:cNvPicPr/>
          <p:nvPr/>
        </p:nvPicPr>
        <p:blipFill>
          <a:blip r:embed="rId2"/>
          <a:srcRect l="6776" t="8051" r="10680" b="6698"/>
          <a:stretch/>
        </p:blipFill>
        <p:spPr>
          <a:xfrm>
            <a:off x="3718080" y="1855800"/>
            <a:ext cx="1323720" cy="9079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2" descr="D:\我的文档-桌面-收藏夹\桌面\奥运五环.jpg"/>
          <p:cNvPicPr/>
          <p:nvPr/>
        </p:nvPicPr>
        <p:blipFill>
          <a:blip r:embed="rId3"/>
          <a:srcRect l="6776" t="8051" r="10680" b="6698"/>
          <a:stretch/>
        </p:blipFill>
        <p:spPr>
          <a:xfrm>
            <a:off x="5997600" y="1855800"/>
            <a:ext cx="132408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2" descr="D:\我的文档-桌面-收藏夹\桌面\1.png"/>
          <p:cNvPicPr/>
          <p:nvPr/>
        </p:nvPicPr>
        <p:blipFill>
          <a:blip r:embed="rId1"/>
          <a:srcRect l="4883" t="49814" r="37302" b="864"/>
          <a:stretch/>
        </p:blipFill>
        <p:spPr>
          <a:xfrm>
            <a:off x="1685880" y="1708200"/>
            <a:ext cx="4230720" cy="1857240"/>
          </a:xfrm>
          <a:prstGeom prst="rect">
            <a:avLst/>
          </a:prstGeom>
          <a:ln w="0">
            <a:noFill/>
          </a:ln>
        </p:spPr>
      </p:pic>
      <p:sp>
        <p:nvSpPr>
          <p:cNvPr id="1031" name="TextBox 15"/>
          <p:cNvSpPr/>
          <p:nvPr/>
        </p:nvSpPr>
        <p:spPr>
          <a:xfrm>
            <a:off x="642960" y="35654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乘法算式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Box 16"/>
          <p:cNvSpPr/>
          <p:nvPr/>
        </p:nvSpPr>
        <p:spPr>
          <a:xfrm>
            <a:off x="642960" y="430848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乘法算式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51"/>
          <p:cNvSpPr/>
          <p:nvPr/>
        </p:nvSpPr>
        <p:spPr>
          <a:xfrm>
            <a:off x="2711520" y="3730680"/>
            <a:ext cx="42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51"/>
          <p:cNvSpPr/>
          <p:nvPr/>
        </p:nvSpPr>
        <p:spPr>
          <a:xfrm>
            <a:off x="4357800" y="3730680"/>
            <a:ext cx="42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51"/>
          <p:cNvSpPr/>
          <p:nvPr/>
        </p:nvSpPr>
        <p:spPr>
          <a:xfrm>
            <a:off x="5786280" y="373068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51"/>
          <p:cNvSpPr/>
          <p:nvPr/>
        </p:nvSpPr>
        <p:spPr>
          <a:xfrm>
            <a:off x="2643120" y="4475160"/>
            <a:ext cx="428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51"/>
          <p:cNvSpPr/>
          <p:nvPr/>
        </p:nvSpPr>
        <p:spPr>
          <a:xfrm>
            <a:off x="4357800" y="4475160"/>
            <a:ext cx="42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51"/>
          <p:cNvSpPr/>
          <p:nvPr/>
        </p:nvSpPr>
        <p:spPr>
          <a:xfrm>
            <a:off x="5786280" y="447372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文本框 3"/>
          <p:cNvSpPr/>
          <p:nvPr/>
        </p:nvSpPr>
        <p:spPr>
          <a:xfrm>
            <a:off x="696960" y="965160"/>
            <a:ext cx="48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看图列出乘法算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6T01:35:00Z</dcterms:created>
  <dc:creator/>
  <dc:description/>
  <dc:language>en-US</dc:language>
  <cp:lastModifiedBy>万润仪器贸易公司</cp:lastModifiedBy>
  <dcterms:modified xsi:type="dcterms:W3CDTF">2020-08-21T00:34:21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